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clap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B99E-2CDC-460A-8897-D8DB13A52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216F-7A30-4C7C-B073-CB686137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0C20-C6C2-4EBA-A759-EB6646F0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0324-CC7C-4206-AD9B-695DD792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E6C6-25E8-47E6-9487-EA6F84DC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9C6C-5E87-4A51-BF63-78DE9C82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79E7-6D16-47D0-86D7-3699FA02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FBF7-108C-45F3-AEF4-EF389495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0FBA-2079-475D-8933-0DFD0462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8325-4D45-4DC6-9EFC-E76B99DD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D27E-27A5-46AE-9DC7-D4F9ACD2E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325B-B9FD-4ABC-BFFF-87AE46D7B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45">
            <a:hlinkClick r:id="" action="ppaction://hlinkshowjump?jump=endshow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38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7" name="Picture 32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PlaceHolder 1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26BC-F024-4C02-9A0D-BCBB06E288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ZAGADK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14040" y="18284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ka firma produkuje komputery Ma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8">
            <a:hlinkClick r:id="" action="ppaction://hlinkshowjump?jump=endshow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Group 25"/>
          <p:cNvGrpSpPr/>
          <p:nvPr/>
        </p:nvGrpSpPr>
        <p:grpSpPr>
          <a:xfrm>
            <a:off x="1447920" y="3352680"/>
            <a:ext cx="2164320" cy="533520"/>
            <a:chOff x="1447920" y="3352680"/>
            <a:chExt cx="2164320" cy="533520"/>
          </a:xfrm>
        </p:grpSpPr>
        <p:sp>
          <p:nvSpPr>
            <p:cNvPr id="111" name="Rectangle 10"/>
            <p:cNvSpPr/>
            <p:nvPr/>
          </p:nvSpPr>
          <p:spPr>
            <a:xfrm>
              <a:off x="1447920" y="3352680"/>
              <a:ext cx="533160" cy="5335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Text Box 11"/>
            <p:cNvSpPr/>
            <p:nvPr/>
          </p:nvSpPr>
          <p:spPr>
            <a:xfrm>
              <a:off x="2058480" y="3403440"/>
              <a:ext cx="155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Group 26"/>
          <p:cNvGrpSpPr/>
          <p:nvPr/>
        </p:nvGrpSpPr>
        <p:grpSpPr>
          <a:xfrm>
            <a:off x="1447920" y="4495680"/>
            <a:ext cx="2061360" cy="533520"/>
            <a:chOff x="1447920" y="4495680"/>
            <a:chExt cx="2061360" cy="533520"/>
          </a:xfrm>
        </p:grpSpPr>
        <p:sp>
          <p:nvSpPr>
            <p:cNvPr id="114" name="Rectangle 14"/>
            <p:cNvSpPr/>
            <p:nvPr/>
          </p:nvSpPr>
          <p:spPr>
            <a:xfrm>
              <a:off x="1447920" y="4495680"/>
              <a:ext cx="533160" cy="5335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Text Box 15"/>
            <p:cNvSpPr/>
            <p:nvPr/>
          </p:nvSpPr>
          <p:spPr>
            <a:xfrm>
              <a:off x="2059200" y="454644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Symbia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Group 27"/>
          <p:cNvGrpSpPr/>
          <p:nvPr/>
        </p:nvGrpSpPr>
        <p:grpSpPr>
          <a:xfrm>
            <a:off x="4724280" y="3352680"/>
            <a:ext cx="1638360" cy="533520"/>
            <a:chOff x="4724280" y="3352680"/>
            <a:chExt cx="1638360" cy="533520"/>
          </a:xfrm>
        </p:grpSpPr>
        <p:sp>
          <p:nvSpPr>
            <p:cNvPr id="117" name="Rectangle 17"/>
            <p:cNvSpPr/>
            <p:nvPr/>
          </p:nvSpPr>
          <p:spPr>
            <a:xfrm>
              <a:off x="4724280" y="3352680"/>
              <a:ext cx="533520" cy="5335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Text Box 18"/>
            <p:cNvSpPr/>
            <p:nvPr/>
          </p:nvSpPr>
          <p:spPr>
            <a:xfrm>
              <a:off x="5335920" y="34034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App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Group 28"/>
          <p:cNvGrpSpPr/>
          <p:nvPr/>
        </p:nvGrpSpPr>
        <p:grpSpPr>
          <a:xfrm>
            <a:off x="4724280" y="4495680"/>
            <a:ext cx="3079080" cy="533520"/>
            <a:chOff x="4724280" y="4495680"/>
            <a:chExt cx="3079080" cy="533520"/>
          </a:xfrm>
        </p:grpSpPr>
        <p:sp>
          <p:nvSpPr>
            <p:cNvPr id="120" name="Rectangle 20"/>
            <p:cNvSpPr/>
            <p:nvPr/>
          </p:nvSpPr>
          <p:spPr>
            <a:xfrm>
              <a:off x="4724280" y="4495680"/>
              <a:ext cx="533520" cy="5335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Text Box 21"/>
            <p:cNvSpPr/>
            <p:nvPr/>
          </p:nvSpPr>
          <p:spPr>
            <a:xfrm>
              <a:off x="5336640" y="4546440"/>
              <a:ext cx="24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Mac Comput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Rectangle 22"/>
          <p:cNvSpPr/>
          <p:nvPr/>
        </p:nvSpPr>
        <p:spPr>
          <a:xfrm>
            <a:off x="6172200" y="6095880"/>
            <a:ext cx="1676520" cy="304920"/>
          </a:xfrm>
          <a:prstGeom prst="rect">
            <a:avLst/>
          </a:prstGeom>
          <a:solidFill>
            <a:srgbClr val="dddddd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Zobacz podpowied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917280" y="6095880"/>
            <a:ext cx="32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Kliknij literę obok prawidłowej odpowiedzi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29" descr="C:\Program Files\Common Files\Microsoft Shared\Clipart\cagcat50\BS00580_.wmf"/>
          <p:cNvPicPr/>
          <p:nvPr/>
        </p:nvPicPr>
        <p:blipFill>
          <a:blip r:embed="rId1"/>
          <a:stretch/>
        </p:blipFill>
        <p:spPr>
          <a:xfrm>
            <a:off x="6248520" y="533520"/>
            <a:ext cx="1523880" cy="12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1934280" y="2133720"/>
            <a:ext cx="52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estety, odpowiedź nie jest prawidłow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4">
            <a:hlinkClick r:id="" action="ppaction://hlinkshowjump?jump=firstslide"/>
          </p:cNvPr>
          <p:cNvSpPr/>
          <p:nvPr/>
        </p:nvSpPr>
        <p:spPr>
          <a:xfrm>
            <a:off x="3200400" y="3505320"/>
            <a:ext cx="2895480" cy="761760"/>
          </a:xfrm>
          <a:prstGeom prst="rect">
            <a:avLst/>
          </a:prstGeom>
          <a:solidFill>
            <a:srgbClr val="dddddd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Spróbuj ponowni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914400" y="45720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Nie udało się! </a:t>
            </a:r>
            <a:r>
              <a:rPr b="0" lang="en-US" sz="4400" spc="-1" strike="noStrike">
                <a:solidFill>
                  <a:srgbClr val="ffcc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7"/>
          <p:cNvSpPr/>
          <p:nvPr/>
        </p:nvSpPr>
        <p:spPr>
          <a:xfrm>
            <a:off x="2309400" y="2133720"/>
            <a:ext cx="51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zwa firmy pochodzi od nazwy owoc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8">
            <a:hlinkClick r:id="" action="ppaction://hlinkshowjump?jump=firstslide"/>
          </p:cNvPr>
          <p:cNvSpPr/>
          <p:nvPr/>
        </p:nvSpPr>
        <p:spPr>
          <a:xfrm>
            <a:off x="3352680" y="3505320"/>
            <a:ext cx="2895840" cy="761760"/>
          </a:xfrm>
          <a:prstGeom prst="rect">
            <a:avLst/>
          </a:prstGeom>
          <a:solidFill>
            <a:srgbClr val="dddddd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Powró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914400" y="45720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odpowied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914400" y="45720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RAWO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2819520" y="1981080"/>
            <a:ext cx="3581280" cy="3581640"/>
          </a:xfrm>
          <a:prstGeom prst="smileyFace">
            <a:avLst>
              <a:gd name="adj" fmla="val 9282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3:17:08Z</dcterms:created>
  <dc:creator/>
  <dc:description/>
  <dc:language>en-US</dc:language>
  <cp:lastModifiedBy>Halina Kubicka</cp:lastModifiedBy>
  <dcterms:modified xsi:type="dcterms:W3CDTF">2012-03-18T21:36:13Z</dcterms:modified>
  <cp:revision>7</cp:revision>
  <dc:subject/>
  <dc:title>ZAGADKA</dc:title>
</cp:coreProperties>
</file>